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DRMNBS06_5F140_5FS_5F16B.WAV" ContentType="audio/x-wav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CB0-D1F6-49C5-9084-A63B6792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1ED-8EE0-41EF-9C4E-2F987D14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F6C-FB1E-4902-87D1-7A710184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185-C9A4-4066-94D9-E5F9F8C2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70E0-E933-4093-B5F0-C8EB7B83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A6D7-A9A8-452A-BE5B-607F927C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8B10-2894-4F83-B3DE-41AE7581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872F-6E51-4FE7-A5C9-E0632AE3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F53C-6B8B-4216-A252-AC379118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F0BB-76E0-4440-BC38-95E5BD0D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EE0C-0370-460A-82C7-3870C2CB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00D-8B7D-41BE-B2F5-236C96B7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507-768D-4352-8297-3952586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1658-F348-48AB-91F2-E9DFB13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8933-00AD-4C2E-93C6-B5BE738F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2852-DB49-4AEE-88BC-87749852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760C-7D56-4863-9116-5212E959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444-1690-4577-A2D6-99149CA7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C91-8F96-4CD1-AD61-EA00DC50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F7E-9AB6-480E-BE78-949F08F5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FA7-12D4-47CB-8FF7-7545F240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B92-ECEC-46FC-9935-F2AD842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79A-B935-4389-9261-75A552F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160-1B03-48B3-9358-585F2C7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AD75-C58A-4DAB-B2B8-0ED1B0A30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1A82-0964-4160-B065-E70841C58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DRMNBS06_5F140_5FS_5F16B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audio" Target="../media/DRMNBS06_5F140_5FS_5F16B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audio" Target="../media/DRMNBS06_5F140_5FS_5F16B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audio" Target="../media/DRMNBS06_5F140_5FS_5F16B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audio" Target="../media/DRMNBS06_5F140_5FS_5F16B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audio" Target="../media/DRMNBS06_5F140_5FS_5F16B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image" Target="../media/image10.jpeg"/><Relationship Id="rId7" Type="http://schemas.openxmlformats.org/officeDocument/2006/relationships/audio" Target="../media/DRMNBS06_5F140_5FS_5F16B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audio" Target="../media/DRMNBS06_5F140_5FS_5F16B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audio" Target="../media/DRMNBS06_5F140_5FS_5F16B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7308720" cy="6858000"/>
          </a:xfrm>
          <a:prstGeom prst="rect">
            <a:avLst/>
          </a:prstGeom>
          <a:blipFill rotWithShape="0">
            <a:blip r:embed="rId3">
              <a:alphaModFix amt="1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316872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0600" spc="-1" strike="noStrike">
                <a:solidFill>
                  <a:srgbClr val="cc6600"/>
                </a:solidFill>
                <a:latin typeface="Angsana New"/>
                <a:cs typeface="KodchiangUPC"/>
              </a:rPr>
              <a:t>บทที่ </a:t>
            </a:r>
            <a:r>
              <a:rPr b="1" i="1" lang="en-US" sz="10600" spc="-1" strike="noStrike">
                <a:solidFill>
                  <a:srgbClr val="cc6600"/>
                </a:solidFill>
                <a:latin typeface="Angsana New"/>
                <a:ea typeface="KodchiangUPC"/>
              </a:rPr>
              <a:t>11</a:t>
            </a:r>
            <a:endParaRPr b="0" lang="en-US" sz="10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99640" y="3789360"/>
            <a:ext cx="6265800" cy="1943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600" spc="-1" strike="noStrike">
                <a:solidFill>
                  <a:srgbClr val="ffcc00"/>
                </a:solidFill>
                <a:latin typeface="Angsana New"/>
                <a:cs typeface="LilyUPC"/>
              </a:rPr>
              <a:t>วงจรต่อผสม </a:t>
            </a:r>
            <a:r>
              <a:rPr b="1" i="1" lang="en-US" sz="5600" spc="-1" strike="noStrike">
                <a:solidFill>
                  <a:srgbClr val="ffcc00"/>
                </a:solidFill>
                <a:latin typeface="Angsana New"/>
                <a:ea typeface="LilyUPC"/>
              </a:rPr>
              <a:t>RLC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over dir="d"/>
    <p:sndAc>
      <p:stSnd>
        <p:snd r:embed="rId4" name="DRMNBS06_5F140_5FS_5F16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7380360" cy="6858000"/>
          </a:xfrm>
          <a:prstGeom prst="rect">
            <a:avLst/>
          </a:prstGeom>
          <a:blipFill rotWithShape="0">
            <a:blip r:embed="rId4">
              <a:alphaModFix amt="1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4360" y="5373720"/>
            <a:ext cx="66974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ูปตัวอย่างการต่อวงจรผสม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RLC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มีลักษณะการต่อวงจ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ตกต่างก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0"/>
            <a:ext cx="5742000" cy="368280"/>
          </a:xfrm>
          <a:prstGeom prst="rect">
            <a:avLst/>
          </a:prstGeom>
          <a:gradFill rotWithShape="0">
            <a:gsLst>
              <a:gs pos="0">
                <a:srgbClr val="4e4a5f"/>
              </a:gs>
              <a:gs pos="50000">
                <a:srgbClr val="aba1cf"/>
              </a:gs>
              <a:gs pos="100000">
                <a:srgbClr val="4e4a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วงจรต่อผสม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RLC 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วงจรผสม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R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1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000" y="981000"/>
            <a:ext cx="6481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cc6600"/>
                </a:solidFill>
                <a:latin typeface="Angsana New"/>
                <a:cs typeface="LilyUPC"/>
              </a:rPr>
              <a:t>วงจรผสม </a:t>
            </a:r>
            <a:r>
              <a:rPr b="1" i="1" lang="en-US" sz="5400" spc="-1" strike="noStrike">
                <a:solidFill>
                  <a:srgbClr val="cc6600"/>
                </a:solidFill>
                <a:latin typeface="Angsana New"/>
                <a:ea typeface="LilyUPC"/>
              </a:rPr>
              <a:t>RLC</a:t>
            </a:r>
            <a:endParaRPr b="0" lang="en-US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3080" y="472428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แบบอนุกรมขน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88800" y="4724280"/>
            <a:ext cx="28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แบบขนานอนุก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539640" y="2924280"/>
            <a:ext cx="282096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3635280" y="2349360"/>
            <a:ext cx="3457800" cy="20782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cover dir="d"/>
    <p:sndAc>
      <p:stSnd>
        <p:snd r:embed="rId8" name="DRMNBS06_5F140_5FS_5F16B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7380360" cy="6858000"/>
          </a:xfrm>
          <a:prstGeom prst="rect">
            <a:avLst/>
          </a:prstGeom>
          <a:blipFill rotWithShape="0">
            <a:blip r:embed="rId4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416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cc6600"/>
                </a:solidFill>
                <a:latin typeface="Angsana New"/>
                <a:cs typeface="LilyUPC"/>
              </a:rPr>
              <a:t>การพิจารณาวงจรอนุกรมก่อนวงจรขนาน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5516640"/>
            <a:ext cx="68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ูปวงจรอนุกรมขนาน ชนิดอิมพีแดนซ์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 </a:t>
            </a:r>
            <a:r>
              <a:rPr b="1" i="1" lang="hi-IN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ชุ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1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e4a5f"/>
              </a:gs>
              <a:gs pos="50000">
                <a:srgbClr val="aba1cf"/>
              </a:gs>
              <a:gs pos="100000">
                <a:srgbClr val="4e4a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วงจรต่อผสม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RLC 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การพิจารณาวงจรอนุกรมก่อนวงจรขน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32000" y="2349360"/>
            <a:ext cx="4968720" cy="2735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 flipV="1" rot="5400000">
            <a:off x="2381760" y="2741040"/>
            <a:ext cx="432000" cy="65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59" y="632"/>
                </a:moveTo>
                <a:arcTo wR="10800" hR="10800" stAng="-6581982" swAng="8500827"/>
                <a:lnTo>
                  <a:pt x="10800" y="10800"/>
                </a:lnTo>
                <a:close/>
              </a:path>
              <a:path fill="none" w="21600" h="21600">
                <a:moveTo>
                  <a:pt x="7159" y="632"/>
                </a:moveTo>
                <a:arcTo wR="10800" hR="10800" stAng="-6581982" swAng="8500827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over dir="d"/>
    <p:sndAc>
      <p:stSnd>
        <p:snd r:embed="rId7" name="DRMNBS06_5F140_5FS_5F16B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920" y="44280"/>
            <a:ext cx="7380360" cy="6858000"/>
          </a:xfrm>
          <a:prstGeom prst="rect">
            <a:avLst/>
          </a:prstGeom>
          <a:blipFill rotWithShape="0">
            <a:blip r:embed="rId4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1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58880" y="1844640"/>
                <a:ext cx="24447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θ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°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72000" y="206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63920" y="3284640"/>
                <a:ext cx="24318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θ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°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4572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00536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e4a5f"/>
              </a:gs>
              <a:gs pos="50000">
                <a:srgbClr val="aba1cf"/>
              </a:gs>
              <a:gs pos="100000">
                <a:srgbClr val="4e4a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วงจรต่อผสม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RLC 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การพิจารณาวงจรอนุกรมก่อนวงจรขน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over dir="d"/>
    <p:sndAc>
      <p:stSnd>
        <p:snd r:embed="rId6" name="DRMNBS06_5F140_5FS_5F16B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7380360" cy="6858000"/>
          </a:xfrm>
          <a:prstGeom prst="rect">
            <a:avLst/>
          </a:prstGeom>
          <a:blipFill rotWithShape="0">
            <a:blip r:embed="rId4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4868640"/>
            <a:ext cx="655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4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	</a:t>
            </a:r>
            <a:r>
              <a:rPr b="1" i="1" lang="th-TH" sz="3200" spc="-1" strike="noStrike">
                <a:solidFill>
                  <a:srgbClr val="000000"/>
                </a:solidFill>
                <a:latin typeface="Arial"/>
                <a:cs typeface="LilyUPC"/>
              </a:rPr>
              <a:t>รูปวงจรอนุกรมขนาน ชนิดอิมพิแดนซ์ </a:t>
            </a:r>
            <a:r>
              <a:rPr b="1" i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2 </a:t>
            </a:r>
            <a:r>
              <a:rPr b="1" i="1" lang="th-TH" sz="3200" spc="-1" strike="noStrike">
                <a:solidFill>
                  <a:srgbClr val="000000"/>
                </a:solidFill>
                <a:latin typeface="Arial"/>
                <a:cs typeface="LilyUPC"/>
              </a:rPr>
              <a:t>ชุ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1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1332000" y="1267920"/>
            <a:ext cx="187164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332000" y="2204640"/>
            <a:ext cx="360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332000" y="3284640"/>
            <a:ext cx="345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284640"/>
            <a:ext cx="1727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268280"/>
            <a:ext cx="172872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58920" y="2205000"/>
            <a:ext cx="187308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124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ngsana New"/>
              </a:rPr>
              <a:t>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36120" y="32130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gsana New"/>
              </a:rPr>
              <a:t>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299736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gsana New"/>
              </a:rPr>
              <a:t>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66640" y="20289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0" y="7239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9320" y="907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37680" y="302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77000" y="31417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51360" y="4076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6440" y="42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6960" y="2781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9680" y="3284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e4a5f"/>
              </a:gs>
              <a:gs pos="50000">
                <a:srgbClr val="aba1cf"/>
              </a:gs>
              <a:gs pos="100000">
                <a:srgbClr val="4e4a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วงจรต่อผสม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RLC 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การพิจารณาวงจรอนุกรมก่อนวงจรขน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525400">
            <a:off x="2383920" y="2268000"/>
            <a:ext cx="384480" cy="965520"/>
          </a:xfrm>
          <a:custGeom>
            <a:avLst/>
            <a:gdLst>
              <a:gd name="textAreaLeft" fmla="*/ 0 w 384480"/>
              <a:gd name="textAreaRight" fmla="*/ 269640 w 384480"/>
              <a:gd name="textAreaTop" fmla="*/ 241200 h 965520"/>
              <a:gd name="textAreaBottom" fmla="*/ 724320 h 96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2997360"/>
            <a:ext cx="142920" cy="287280"/>
          </a:xfrm>
          <a:custGeom>
            <a:avLst/>
            <a:gdLst>
              <a:gd name="textAreaLeft" fmla="*/ 0 w 142920"/>
              <a:gd name="textAreaRight" fmla="*/ 100440 w 142920"/>
              <a:gd name="textAreaTop" fmla="*/ 56880 h 287280"/>
              <a:gd name="textAreaBottom" fmla="*/ 23040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282"/>
                  <a:pt x="21600" y="8564"/>
                </a:cubicBezTo>
                <a:lnTo>
                  <a:pt x="21600" y="13036"/>
                </a:lnTo>
                <a:cubicBezTo>
                  <a:pt x="21600" y="17318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258200">
            <a:off x="1837800" y="3305160"/>
            <a:ext cx="200160" cy="273240"/>
          </a:xfrm>
          <a:custGeom>
            <a:avLst/>
            <a:gdLst>
              <a:gd name="textAreaLeft" fmla="*/ 0 w 200160"/>
              <a:gd name="textAreaRight" fmla="*/ 140400 w 200160"/>
              <a:gd name="textAreaTop" fmla="*/ 68400 h 273240"/>
              <a:gd name="textAreaBottom" fmla="*/ 205200 h 2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over dir="d"/>
    <p:sndAc>
      <p:stSnd>
        <p:snd r:embed="rId6" name="DRMNBS06_5F140_5FS_5F16B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7380360" cy="6858000"/>
          </a:xfrm>
          <a:prstGeom prst="rect">
            <a:avLst/>
          </a:prstGeom>
          <a:blipFill rotWithShape="0">
            <a:blip r:embed="rId4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1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268360" y="981000"/>
                <a:ext cx="2519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268360" y="2205000"/>
                <a:ext cx="2440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268360" y="3500280"/>
                <a:ext cx="18464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68360" y="4076640"/>
                <a:ext cx="1063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68360" y="4941720"/>
                <a:ext cx="2127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e4a5f"/>
              </a:gs>
              <a:gs pos="50000">
                <a:srgbClr val="aba1cf"/>
              </a:gs>
              <a:gs pos="100000">
                <a:srgbClr val="4e4a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วงจรต่อผสม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RLC 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การพิจารณาวงจรอนุกรมก่อนวงจรขน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over dir="d"/>
    <p:sndAc>
      <p:stSnd>
        <p:snd r:embed="rId6" name="DRMNBS06_5F140_5FS_5F16B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308720" y="0"/>
            <a:ext cx="18352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7308720" cy="6858000"/>
          </a:xfrm>
          <a:prstGeom prst="rect">
            <a:avLst/>
          </a:prstGeom>
          <a:blipFill rotWithShape="0">
            <a:blip r:embed="rId4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5445000"/>
            <a:ext cx="6840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รูปวงจรขนานอนุกรมชนิดอิมพีแดนซ์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2 </a:t>
            </a:r>
            <a:r>
              <a:rPr b="1" i="1" lang="hi-IN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ชุ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-360" y="764640"/>
            <a:ext cx="7489800" cy="132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800" spc="-1" strike="noStrike">
                <a:solidFill>
                  <a:srgbClr val="cc6600"/>
                </a:solidFill>
                <a:latin typeface="Angsana New"/>
                <a:cs typeface="LilyUPC"/>
              </a:rPr>
              <a:t>การพิจารณาวงจรขนานก่อนวงจรอนุกรม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e4a5f"/>
              </a:gs>
              <a:gs pos="50000">
                <a:srgbClr val="aba1cf"/>
              </a:gs>
              <a:gs pos="100000">
                <a:srgbClr val="4e4a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วงจรต่อผสม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RLC 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การพิจารณาวงจรขนานก่อนวงจรอนุกร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900000" y="2060640"/>
            <a:ext cx="5400720" cy="3166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 rot="5400000">
            <a:off x="1947600" y="2957760"/>
            <a:ext cx="322560" cy="83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59" y="632"/>
                </a:moveTo>
                <a:arcTo wR="10800" hR="10800" stAng="-6581982" swAng="6703849"/>
                <a:lnTo>
                  <a:pt x="10800" y="10800"/>
                </a:lnTo>
                <a:close/>
              </a:path>
              <a:path fill="none" w="21600" h="21600">
                <a:moveTo>
                  <a:pt x="7159" y="632"/>
                </a:moveTo>
                <a:arcTo wR="10800" hR="10800" stAng="-6581982" swAng="670384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over dir="d"/>
    <p:sndAc>
      <p:stSnd>
        <p:snd r:embed="rId7" name="DRMNBS06_5F140_5FS_5F16B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308720" y="0"/>
            <a:ext cx="183528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7308720" cy="6858000"/>
          </a:xfrm>
          <a:prstGeom prst="rect">
            <a:avLst/>
          </a:prstGeom>
          <a:blipFill rotWithShape="0">
            <a:blip r:embed="rId4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92360" y="1341360"/>
                <a:ext cx="3600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763640" y="2421000"/>
                <a:ext cx="3598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63640" y="3789360"/>
                <a:ext cx="3678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3995640" y="2492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95640" y="3933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9564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e4a5f"/>
              </a:gs>
              <a:gs pos="50000">
                <a:srgbClr val="aba1cf"/>
              </a:gs>
              <a:gs pos="100000">
                <a:srgbClr val="4e4a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วงจรต่อผสม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RLC 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การพิจารณาวงจรขนานก่อนวงจรอนุกร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over dir="d"/>
    <p:sndAc>
      <p:stSnd>
        <p:snd r:embed="rId6" name="DRMNBS06_5F140_5FS_5F16B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308720" y="0"/>
            <a:ext cx="183528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0"/>
            <a:ext cx="7308720" cy="6858000"/>
          </a:xfrm>
          <a:prstGeom prst="rect">
            <a:avLst/>
          </a:prstGeom>
          <a:blipFill rotWithShape="0">
            <a:blip r:embed="rId4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aba1cf"/>
              </a:gs>
              <a:gs pos="100000">
                <a:srgbClr val="4e4a5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692360" y="765000"/>
                <a:ext cx="158436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63640" y="1268280"/>
                <a:ext cx="1046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763640" y="1989000"/>
                <a:ext cx="1081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763640" y="2492280"/>
                <a:ext cx="1170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51280" y="2924280"/>
                <a:ext cx="11653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851280" y="3716280"/>
                <a:ext cx="1254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851280" y="4653000"/>
                <a:ext cx="12254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51280" y="5589720"/>
                <a:ext cx="11955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116000" y="0"/>
            <a:ext cx="5742000" cy="642600"/>
          </a:xfrm>
          <a:prstGeom prst="rect">
            <a:avLst/>
          </a:prstGeom>
          <a:gradFill rotWithShape="0">
            <a:gsLst>
              <a:gs pos="0">
                <a:srgbClr val="4e4a5f"/>
              </a:gs>
              <a:gs pos="50000">
                <a:srgbClr val="aba1cf"/>
              </a:gs>
              <a:gs pos="100000">
                <a:srgbClr val="4e4a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วงจรต่อผสม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RLC /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การพิจารณาวงจรขนานก่อนวงจรอนุกร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cover dir="d"/>
    <p:sndAc>
      <p:stSnd>
        <p:snd r:embed="rId6" name="DRMNBS06_5F140_5FS_5F16B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2:43:12Z</dcterms:created>
  <dc:creator>ADMIN</dc:creator>
  <dc:description/>
  <dc:language>en-US</dc:language>
  <cp:lastModifiedBy>พี่อุอุ๊</cp:lastModifiedBy>
  <dcterms:modified xsi:type="dcterms:W3CDTF">2005-11-14T03:24:42Z</dcterms:modified>
  <cp:revision>54</cp:revision>
  <dc:subject/>
  <dc:title>งานนำเสนอ PowerPoint</dc:title>
</cp:coreProperties>
</file>